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49C-074D-46A6-9E4C-73CB960D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1E4-5A6F-4AE4-869D-F633ABCC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15E7-D42F-499F-93C6-DA162555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5BAB-4917-4A96-975C-1A2DFB88C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60D2-2E28-4EE1-9B52-2EE7A715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3360-CD6D-418D-A684-56A20865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F09-DA6F-476F-BDE2-695419AE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99B-EE9B-4E3F-9FF5-727F5870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B6F-26A5-4A07-BAED-95AF9867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0E9-C527-4ADF-BB76-FF489989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B02-4990-45C0-BFA8-A98F004D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2637-D3A7-4243-B98B-24EAD0FD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4F53-DD2D-4F6D-8062-39B8B4350C6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DIABETES MELLITUS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РУДНОЋИ</a:t>
            </a:r>
            <a:br>
              <a:rPr sz="3600"/>
            </a:br>
            <a:br>
              <a:rPr sz="3600"/>
            </a:b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роф. др Мирјана Варјачић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пертроф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гхансових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вац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ог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јчи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ли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цент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т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ј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1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ли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алног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кл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-9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г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нионској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ли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аза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7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4920" y="609120"/>
            <a:ext cx="806292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тални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нкреас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агује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УТНЕ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омене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центрације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и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агује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ХРОНИЧНУ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ергликемију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ертрофијом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ерплазијом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трваца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ним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учењем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а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рмал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удноћ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уј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јабетогено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тељиц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вар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ормон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ј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уј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ти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HPL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strogeni i progesteron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rtizol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њ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и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њ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шићи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сно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кив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в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крецију глукаго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lacentne insulinaze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г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њ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ЕСТАЦИЈСКИ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ЈАБЕТЕС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GDM</a:t>
            </a:r>
            <a:br>
              <a:rPr sz="3200"/>
            </a:br>
            <a:br>
              <a:rPr sz="2800"/>
            </a:b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дро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ранци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j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в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фесту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л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р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k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авидите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ђ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.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ично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ављ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I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иместр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р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ви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истенц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б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ћ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центрациј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мо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koj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тагонистички делују на инсулин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br>
              <a:rPr sz="4000"/>
            </a:br>
            <a:br>
              <a:rPr sz="3600"/>
            </a:br>
            <a:br>
              <a:rPr sz="32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inning test –O SALIVEN –MAHANOV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тод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итич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реднос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7,7 mmo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/l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GT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893080" cy="583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кац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GTT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зик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јабе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ж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ци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зуриј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е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јаз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0 kg)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ос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к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5)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сомно новорођенче из предходне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е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00 gr)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творођеност, хабитуални побачаји и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ремени порођаји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ениталне малформације у предходној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и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749cdc"/>
                </a:solidFill>
                <a:latin typeface="Calibri"/>
              </a:rPr>
              <a:t>Дијагноза</a:t>
            </a:r>
            <a:r>
              <a:rPr b="1" lang="sr-Latn-CS" sz="3600" spc="-1" strike="noStrike">
                <a:solidFill>
                  <a:srgbClr val="749cdc"/>
                </a:solidFill>
                <a:latin typeface="Calibri"/>
              </a:rPr>
              <a:t> D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OGTT-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шт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7,0mmol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лучајн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зорк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на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11,1mmol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реба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OGT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шт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5,8mmol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т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6,7mmol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OGT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6000" y="1534680"/>
            <a:ext cx="2374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100g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2420640"/>
            <a:ext cx="3889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šte 5,3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60min – 10,0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20min – 8,6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80min – 7,8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35280" y="1534680"/>
            <a:ext cx="32511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7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2920" y="2688840"/>
            <a:ext cx="403236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Našte 5,3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60min – 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20min – 8,6 mmol/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8390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ТИЦА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DIJABETESA  MELLITUSA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T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Д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Ћ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ћ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ос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пси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пс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шћ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PIH-a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ихидрам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 (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2,7-32%)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генитал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чешћ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ја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екција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в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ђај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ћ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ос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х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ећа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рт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к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0,115%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АЛИЈ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А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3600"/>
            </a:br>
            <a:r>
              <a:rPr b="1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о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ц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н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л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nencephalia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idronefroza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б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orektaln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ј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UGR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-14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sceromegalia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вац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к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6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82152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рај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 XIX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ек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в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дац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o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уд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ћ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ијабетич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к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Фертилнос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ијаб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ич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к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в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a 2%</a:t>
            </a:r>
            <a:br>
              <a:rPr sz="2800"/>
            </a:br>
            <a:br>
              <a:rPr sz="2800"/>
            </a:b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lin 1916. 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нтан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30 %.</a:t>
            </a:r>
            <a:br>
              <a:rPr sz="24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IAMS  1925.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.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50%.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ing, Best  1921-1922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. - откривај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ули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њ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ћ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ти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lang="sl-SI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-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хемијск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ив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зи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гл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дове вод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-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физички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тразвук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дио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o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ј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АПИЈА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DIJABETES  MELLITUSA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УДНОЋИ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br>
              <a:rPr sz="3200"/>
            </a:b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во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икеми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6 mmo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/l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њу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ћу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хра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j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ж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аб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њ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тиг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ст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бегавају инсулинска антитела која оштећују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талн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ћелиј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ист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атког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едњ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угог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јства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вре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–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 у 4 дозе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потреб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'' penpumpi''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удноћ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ш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кон навршених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38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г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код добро регулисаних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иоцентез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u 37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г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ги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ђ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j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ж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љ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уш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ских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т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ди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ци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ер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јум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т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инсулином смањује јер нема фактора који делују антиинсулиногено.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ио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ривањ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иод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ио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1921-1940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ртнос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ц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30%.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ио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1940-1970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морталите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ц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15%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ш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0%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стра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RDS-a.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I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иод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1970.)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мртнос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ц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ближа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j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л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циј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ЕСТАЛО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ш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лац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2-3%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л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ћ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BETES MELLITUS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Е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РОНИЧ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ЋА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M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Е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ИЗ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J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 K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K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ИШ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ГЛИ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ЈО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ДРУЖЕ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M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Ћ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M  M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ЕТ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ИЗ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И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.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ТИОЛОГИЈА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генск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</a:rPr>
              <a:t>а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основ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</a:rPr>
              <a:t>а</a:t>
            </a:r>
            <a:br>
              <a:rPr sz="2800"/>
            </a:br>
            <a:r>
              <a:rPr b="0" lang="sl-SI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гојазн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ст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br>
              <a:rPr sz="2800"/>
            </a:br>
            <a:r>
              <a:rPr b="0" lang="sr-Latn-CS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инфекција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интоксикациј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a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ТОГЕНЕЗА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генетска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предиспози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insulinitis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изазв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ф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ктор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м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средин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промен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e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β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ћелија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које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виш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н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e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пр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п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зна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j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kao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своје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актив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циј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имуног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сист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деструкција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β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ћел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развој</a:t>
            </a:r>
            <a:r>
              <a:rPr b="0" lang="sl-SI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diabetes mellitus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АСИФИКАЦИЈ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Е</a:t>
            </a:r>
            <a:br>
              <a:rPr sz="3200"/>
            </a:br>
            <a:br>
              <a:rPr sz="3200"/>
            </a:b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митет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ј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SZO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br>
              <a:rPr sz="2800"/>
            </a:b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марни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-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висни</a:t>
            </a:r>
            <a:br>
              <a:rPr sz="2800"/>
            </a:b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кундарни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зависни</a:t>
            </a:r>
            <a:br>
              <a:rPr sz="2800"/>
            </a:b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га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ела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ЗО</a:t>
            </a:r>
            <a:br>
              <a:rPr sz="3200"/>
            </a:br>
            <a:r>
              <a:rPr b="1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иничка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фик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иј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)</a:t>
            </a:r>
            <a:br>
              <a:rPr sz="3200"/>
            </a:br>
            <a:br>
              <a:rPr sz="32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сули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вис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и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</a:t>
            </a:r>
            <a:br>
              <a:rPr sz="2800"/>
            </a:b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сули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завис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ип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I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негојазни и гојазни)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мањен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л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циј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лук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гојазни-г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j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естацијск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a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166"/>
                </a:solidFill>
                <a:latin typeface="Calibri"/>
                <a:ea typeface="Times New Roman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ISCIL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</a:t>
            </a: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  WHITE ’S (1965,1976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dovoljna je samo dijeta.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početak bolesti posle 19.god, trajanje bolesti manje od 10 g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početak bolesti od 10-19 god, trajanje duže od 10 g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trajanje bolesti više od 20 god, retinopatija i hipertenzija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 –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priliferativna retinopatija i/ili krvarenje u stakl. telu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F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 nefropatija sa proteinurijom ≥ 500mg/dnevno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udruženi kriterijumi za obe klase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 klinički evidentirane bolesti srca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stanja pre bubrežne transplantacij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8:00:21Z</dcterms:created>
  <dc:creator>Registered User</dc:creator>
  <dc:description/>
  <dc:language>en-US</dc:language>
  <cp:lastModifiedBy>Machina</cp:lastModifiedBy>
  <dcterms:modified xsi:type="dcterms:W3CDTF">2015-05-11T12:25:18Z</dcterms:modified>
  <cp:revision>24</cp:revision>
  <dc:subject/>
  <dc:title>DIABETES MELLITUS U TRUDNOĆI</dc:title>
</cp:coreProperties>
</file>