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F5D0-C97B-4DF1-941A-AF1F2400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5DBA-68BC-4920-BB53-74814F3D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C713-DAAC-4C6C-B58E-2E47F08C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E736-C333-4644-80DC-E55D79DD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D173-7209-40C3-B420-D91D0950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EC54-0293-4E5F-BB17-1E61AD7A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92C0-D0B8-4BA1-8F00-FC1EE03A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AAB8-EFE3-459A-A93A-022E9E98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CC28-4A11-4E31-9756-7EB61671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76FC-9F7D-484D-9264-B0DBAAA0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9D2D-2B79-42CC-A9E8-0C221AF7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D576-4A10-4FD4-B2E6-773DA9F6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4C0A-8B99-4A99-AA50-5C103831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0CA0-FA3A-4AA8-BEA1-D3C4DCF2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ADCE-91DC-4AF7-99AE-194DA5EC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989D-9B62-4AD0-B35A-040F16A9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BA7A-C380-4648-AB40-187B1D97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CEE4-6AE2-43B0-95C0-70534DFA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6C58-2EA1-4BA9-980D-BD92B18B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66EB-E85D-4AA6-9E4C-32749E56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437-47FC-4EAA-9DEF-3A85D384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7738-A9F7-43CA-9339-AD5C905C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D649-0A71-4296-BCE5-321944A1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CF75-5347-438F-9FF2-BA38D15C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721F-F192-482A-88B2-6B8CCE30F6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B633-023B-443A-9395-48BF79517E36}" type="slidenum">
              <a:rPr b="0" lang="en-GB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sr-RS" sz="3200" spc="-1" strike="noStrike">
                <a:solidFill>
                  <a:srgbClr val="ccffff"/>
                </a:solidFill>
                <a:latin typeface="Tahoma"/>
              </a:rPr>
              <a:t>Спонтани</a:t>
            </a:r>
            <a:r>
              <a:rPr b="1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RS" sz="3200" spc="-1" strike="noStrike">
                <a:solidFill>
                  <a:srgbClr val="ccffff"/>
                </a:solidFill>
                <a:latin typeface="Tahoma"/>
              </a:rPr>
              <a:t>побачај</a:t>
            </a:r>
            <a:br>
              <a:rPr sz="3200"/>
            </a:b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sr-RS" sz="2400" spc="-1" strike="noStrike">
                <a:solidFill>
                  <a:srgbClr val="ccffff"/>
                </a:solidFill>
                <a:latin typeface="Tahoma"/>
              </a:rPr>
              <a:t>Инциденца</a:t>
            </a:r>
            <a:r>
              <a:rPr b="1" lang="sr-Latn-CS" sz="2400" spc="-1" strike="noStrike">
                <a:solidFill>
                  <a:srgbClr val="ccffff"/>
                </a:solidFill>
                <a:latin typeface="Tahoma"/>
              </a:rPr>
              <a:t>   15-20%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RS" sz="2800" spc="-1" strike="noStrike">
                <a:solidFill>
                  <a:srgbClr val="ffffff"/>
                </a:solidFill>
                <a:latin typeface="Tahoma"/>
              </a:rPr>
              <a:t>Етиологија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Аномалиј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заметк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хромозомопатиј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генопат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Анатомск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функционалн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промен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грлић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матер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грлић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слузокож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матер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Акутн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хроничн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обољењ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инфективн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неинфективн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Ендокринопатиј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тиреоидн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шлезд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диабетес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меллитус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инсуфициј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жутог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тел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Имунолошк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поремећај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препознавања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антигено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страног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феталног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тк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Хемијск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чиниоц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спољашњ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средин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леко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Трау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sr-RS" sz="3200" spc="-1" strike="noStrike">
                <a:solidFill>
                  <a:srgbClr val="ccffff"/>
                </a:solidFill>
                <a:latin typeface="Tahoma"/>
              </a:rPr>
              <a:t>Клиничка</a:t>
            </a:r>
            <a:r>
              <a:rPr b="1" lang="sr-Latn-CS" sz="32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RS" sz="3200" spc="-1" strike="noStrike">
                <a:solidFill>
                  <a:srgbClr val="ccffff"/>
                </a:solidFill>
                <a:latin typeface="Tahoma"/>
              </a:rPr>
              <a:t>слик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Крварењ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из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утеру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Контракциј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утерус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бол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доњем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делу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трбух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Истицањ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плодов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в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Избацивањ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делов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постељице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плод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из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утеру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sr-RS" sz="3200" spc="-1" strike="noStrike">
                <a:solidFill>
                  <a:srgbClr val="ccffff"/>
                </a:solidFill>
                <a:latin typeface="Tahoma"/>
              </a:rPr>
              <a:t>Дијагноз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Клиничк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дијагн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гинеколошк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преглед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под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спекулум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бимануел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гинеколошк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прегл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Ултразвучн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дијагн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абдоминал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трансвагинал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Биохемијска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дијагн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одређивањ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вредност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C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одређивањ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β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субјединиц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C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sr-RS" sz="3200" spc="-1" strike="noStrike">
                <a:solidFill>
                  <a:srgbClr val="ccffff"/>
                </a:solidFill>
                <a:latin typeface="Tahoma"/>
              </a:rPr>
              <a:t>Компликације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RS" sz="2800" spc="-1" strike="noStrike">
                <a:solidFill>
                  <a:srgbClr val="ffffff"/>
                </a:solidFill>
                <a:latin typeface="Tahoma"/>
              </a:rPr>
              <a:t>Ран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rezidu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perforacija uteru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незаустављиво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крвар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DI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perito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tromboflebitis vena karl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40972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RS" sz="2800" spc="-1" strike="noStrike">
                <a:solidFill>
                  <a:srgbClr val="ffffff"/>
                </a:solidFill>
                <a:latin typeface="Tahoma"/>
              </a:rPr>
              <a:t>Касне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Sy Asherm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amenore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infertilit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sr-RS" sz="3200" spc="-1" strike="noStrike">
                <a:solidFill>
                  <a:srgbClr val="ccffff"/>
                </a:solidFill>
                <a:latin typeface="Tahoma"/>
              </a:rPr>
              <a:t>Лечење</a:t>
            </a:r>
            <a:br>
              <a:rPr sz="32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  </a:t>
            </a:r>
            <a:r>
              <a:rPr b="1" lang="sr-RS" sz="3200" spc="-1" strike="noStrike">
                <a:solidFill>
                  <a:srgbClr val="ff5050"/>
                </a:solidFill>
                <a:latin typeface="Tahoma"/>
              </a:rPr>
              <a:t>каузално</a:t>
            </a:r>
            <a:r>
              <a:rPr b="1" lang="sr-Latn-CS" sz="3200" spc="-1" strike="noStrike">
                <a:solidFill>
                  <a:srgbClr val="ff5050"/>
                </a:solidFill>
                <a:latin typeface="Tahoma"/>
              </a:rPr>
              <a:t> </a:t>
            </a:r>
            <a:br>
              <a:rPr sz="3200"/>
            </a:b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228600" y="2209680"/>
            <a:ext cx="3276720" cy="1828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Times New Roman"/>
              </a:rPr>
              <a:t>хирушк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5791320" y="2133720"/>
            <a:ext cx="3047760" cy="19047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Times New Roman"/>
              </a:rPr>
              <a:t>Нехирур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cffff"/>
                </a:solidFill>
                <a:latin typeface="Tahoma"/>
              </a:rPr>
              <a:t>Нехируршки</a:t>
            </a:r>
            <a:r>
              <a:rPr b="1" lang="sr-Latn-C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RS" sz="2800" spc="-1" strike="noStrike">
                <a:solidFill>
                  <a:srgbClr val="ccffff"/>
                </a:solidFill>
                <a:latin typeface="Tahoma"/>
              </a:rPr>
              <a:t>терпијски</a:t>
            </a:r>
            <a:r>
              <a:rPr b="1" lang="sr-Latn-C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RS" sz="2800" spc="-1" strike="noStrike">
                <a:solidFill>
                  <a:srgbClr val="ccffff"/>
                </a:solidFill>
                <a:latin typeface="Tahoma"/>
              </a:rPr>
              <a:t>поступци</a:t>
            </a:r>
            <a:r>
              <a:rPr b="1" lang="sr-Latn-CS" sz="2800" spc="-1" strike="noStrike">
                <a:solidFill>
                  <a:srgbClr val="cc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28480"/>
            <a:ext cx="404028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Специфич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2786040"/>
            <a:ext cx="404028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spirin i hepar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Antibioti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etform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upresija L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Bromokript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4720" y="1357200"/>
            <a:ext cx="404172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ahoma"/>
              </a:rPr>
              <a:t>Неспецифич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4720" y="2174400"/>
            <a:ext cx="404172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Progeste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C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Uterorelaksanti(tokolitic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Imunoterapij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Витами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Интензивни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надзор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трудноћ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Миро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Избегавање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сексуалне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ahoma"/>
              </a:rPr>
              <a:t>актив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sr-RS" sz="2800" spc="-1" strike="noStrike">
                <a:solidFill>
                  <a:srgbClr val="ccffff"/>
                </a:solidFill>
                <a:latin typeface="Tahoma"/>
              </a:rPr>
              <a:t>Подела</a:t>
            </a:r>
            <a:r>
              <a:rPr b="1" lang="sr-Latn-C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RS" sz="2800" spc="-1" strike="noStrike">
                <a:solidFill>
                  <a:srgbClr val="ccffff"/>
                </a:solidFill>
                <a:latin typeface="Tahoma"/>
              </a:rPr>
              <a:t>спонтаних</a:t>
            </a:r>
            <a:r>
              <a:rPr b="1" lang="sr-Latn-C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sr-RS" sz="2800" spc="-1" strike="noStrike">
                <a:solidFill>
                  <a:srgbClr val="ccffff"/>
                </a:solidFill>
                <a:latin typeface="Tahoma"/>
              </a:rPr>
              <a:t>побачаја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4190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Ab. immin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Ab. incipi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Ab. in trac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Ab. incomplet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Ab. comple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ahoma"/>
              </a:rPr>
              <a:t>Posebne vrst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Blighted ov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Ab. retenus (Missed ab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Ab. habitual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Vanishing tw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Некомпликован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фебрилн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побачај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Компликован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фебрилни</a:t>
            </a: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Tahoma"/>
              </a:rPr>
              <a:t>побачај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Ab. incompletus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838080" y="1295280"/>
          <a:ext cx="75438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75438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Rectangle 4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Anembrionalna trudno</a:t>
            </a:r>
            <a:r>
              <a:rPr b="1" lang="sr-Latn-CS" sz="3200" spc="-1" strike="noStrike">
                <a:solidFill>
                  <a:srgbClr val="ccffff"/>
                </a:solidFill>
                <a:latin typeface="Tahoma"/>
              </a:rPr>
              <a:t>ća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5" name="Object 3"/>
          <p:cNvGraphicFramePr/>
          <p:nvPr/>
        </p:nvGraphicFramePr>
        <p:xfrm>
          <a:off x="533520" y="990720"/>
          <a:ext cx="807696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807696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Anembrionalna trudno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	</a:t>
            </a:r>
            <a:r>
              <a:rPr b="1" lang="sr-Latn-CS" sz="3200" spc="-1" strike="noStrike">
                <a:solidFill>
                  <a:srgbClr val="ccffff"/>
                </a:solidFill>
                <a:latin typeface="Tahoma"/>
              </a:rPr>
              <a:t>Missed ab.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457200" y="1066680"/>
          <a:ext cx="83818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3818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Hematom u ranoj trudnoci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ffff"/>
                </a:solidFill>
                <a:latin typeface="Tahoma"/>
              </a:rPr>
              <a:t>Hematom u ranoj trudnoći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23:58Z</dcterms:created>
  <dc:creator>Registered User</dc:creator>
  <dc:description/>
  <dc:language>en-US</dc:language>
  <cp:lastModifiedBy>Machina</cp:lastModifiedBy>
  <dcterms:modified xsi:type="dcterms:W3CDTF">2016-04-18T16:38:49Z</dcterms:modified>
  <cp:revision>13</cp:revision>
  <dc:subject/>
  <dc:title>Placenta previa Incidenca – 1/200-400 porođaja</dc:title>
</cp:coreProperties>
</file>