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68B9-4C10-480F-B93D-3C6AB22CE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9919-FA56-40A2-8663-9C1EAB199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90D6-DE4C-4486-A7A6-1509507BB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52CA-4D75-4D89-8734-1C65E3B59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F54C-28AB-4FF2-A567-9E60174C6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E82B-A04C-4ABE-AE80-580A88B58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28F8-E12E-45C7-BA65-42D81D778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97AB-F414-4CDE-B250-F2F680819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2ACC-E48D-4CE2-9AE5-19F0C1942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5943-C858-4350-8580-C506B2ED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88F1-7B48-4D6C-8D95-555AEAF7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C91F-6156-401D-9332-7BE58952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1D8A6-4C20-4066-A36C-33CF22C225C3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1211040"/>
            <a:ext cx="7467840" cy="14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докрина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љења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ћ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905120" y="3657240"/>
            <a:ext cx="56671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Проф</a:t>
            </a:r>
            <a:r>
              <a:rPr b="0" lang="sr-Latn-CS" sz="28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. </a:t>
            </a:r>
            <a:r>
              <a:rPr b="0" lang="en-US" sz="28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др</a:t>
            </a:r>
            <a:r>
              <a:rPr b="0" lang="sr-Latn-CS" sz="28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Мирјана</a:t>
            </a:r>
            <a:r>
              <a:rPr b="0" lang="sr-Latn-CS" sz="28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Варјачи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1196640"/>
            <a:ext cx="7315200" cy="489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br>
              <a:rPr sz="2400"/>
            </a:b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operativno (pre 24 NG) </a:t>
            </a:r>
            <a:br>
              <a:rPr sz="2400"/>
            </a:b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medikamentozno </a:t>
            </a:r>
            <a:br>
              <a:rPr sz="2400"/>
            </a:b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u drugom trimestru – Alfa adrenergička blokada fenoksibenzaminom)</a:t>
            </a:r>
            <a:br>
              <a:rPr sz="2400"/>
            </a:br>
            <a:br>
              <a:rPr sz="2400"/>
            </a:b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caj na  trudnoću: </a:t>
            </a:r>
            <a:br>
              <a:rPr sz="2400"/>
            </a:b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mortalitet majki je 17 – 58%, </a:t>
            </a:r>
            <a:br>
              <a:rPr sz="2400"/>
            </a:b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IUGR </a:t>
            </a:r>
            <a:br>
              <a:rPr sz="2400"/>
            </a:b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erinatalni mortalitet  55%.</a:t>
            </a:r>
            <a:br>
              <a:rPr sz="2400"/>
            </a:br>
            <a:br>
              <a:rPr sz="2400"/>
            </a:b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ođaj: operativnim putem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Штитаста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жлезда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трудноћ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052640"/>
            <a:ext cx="8229600" cy="52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овећа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базалног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метаболизм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рачу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метаболизм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фетус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овећа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кумулаци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ј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овећа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жлезд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оследиц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хиперплази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ојача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аскулариза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главно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овећавај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фоликул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олоид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њи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ктивност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жлезд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трудноћ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тич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82800" indent="-196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Естроген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(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овећавај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количин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глобулин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луж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носаћ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хормон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82800" indent="-196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Хорионск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тиреотропн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хормон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(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как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???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82800" indent="-196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омењен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редност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јод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(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брж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губитак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ег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бубрег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овећан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отреб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фетус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Механизам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дејства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естроге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50560" y="764640"/>
            <a:ext cx="889308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ораст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онцентраци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глобули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енос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хормо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штитаст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жлезд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 TB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овећа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интез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јетр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овећа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гликолизациј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TBG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шт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довод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мањеног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лирен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овише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онцентрациј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TBG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довод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овећањ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онцентрациј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укупних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р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: T₃ i T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онцентрациј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лободних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хормо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линичк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активн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стај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епромење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Трудниц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еутиреотична</a:t>
            </a:r>
            <a:r>
              <a:rPr b="1" lang="sr-Latn-CS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TSH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трудноћ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иј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веза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осач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његов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онцентрациј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трудноћ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епромење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Плацентна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пропустљиво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196640"/>
            <a:ext cx="822960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ормалној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трудноћ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ролазак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роз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остељиц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3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4 –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значајн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ограничен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об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мер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лацент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ропушт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ов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упстанц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без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обзир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татус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фетус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Благ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трансфер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3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4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мож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остојат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ак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мајк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м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зузетн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висок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вредност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ових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хормо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мајк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ролаз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лацентн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баријер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Антител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штитњач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id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imulating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munoglobulins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мог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оказат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код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оболелих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трудниц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мог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роћ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лацент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ок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1%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лучајев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овод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феталн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тиретоксико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Леков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хиперфункциј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ролаз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плацент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мог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тицат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функциј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феталн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жлезд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мон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итњач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довој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50560" y="1934640"/>
            <a:ext cx="84358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Konc. hormona raste progresivno, max. 25.-30.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T4 pada , a T3 nastavlja rast u drugoj polovini trudnoć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Reverzni T3 je povećan u plodovoj vodi – max 17-20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Извор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вих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хормо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лодовој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од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мож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бит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фетус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л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редност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тих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арамета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не</a:t>
            </a:r>
            <a:r>
              <a:rPr b="1" lang="sr-Latn-C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корелирају</a:t>
            </a:r>
            <a:r>
              <a:rPr b="1" lang="sr-Latn-C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век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татусо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фетал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жјезд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roff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гађај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ио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лико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з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125360"/>
            <a:ext cx="8229600" cy="51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SH i T4 pojavljuju se u 10-13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ju niske vrednosti do skoka u 20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4 progresivno raste i u terminu je iznad maternalnih koncentraci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3 raste, ali ima niske vrednosti koje bi kod odraslog bile hipotireotič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erzni T3 premašuje vrednosti kod odrasli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le porođaja: TSH ima najviše vrednosti u 30 min života, nax T3 nakon 24 sata, max T4 24-48 sati. Povećanje T3 ne zavisi o nivou TS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oki reverzni T3 perzistira 3-5 dana, i pada dostižući normalne vrednosti u 2nedelji život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729720"/>
            <a:ext cx="8686800" cy="427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сти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итасте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лезде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ћи</a:t>
            </a:r>
            <a:br>
              <a:rPr sz="3200"/>
            </a:b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tireoidizam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hipotireoidizam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struma (sa ili bez poremećaja funkcije)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zapaljenska oboljenja ( sa prolaznim poremećajem funkcije)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tumori (adenomi i karcinomi)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rin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функциј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реоидн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лезд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ћ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2142720"/>
            <a:ext cx="822960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Žene sa predhodno dijagnostikovanim poremećajima funkci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Žene sa porodičnim opterećenj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Žene sa prisutnim antitireoidnim 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Žene sa tip I diabetes mellitus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Oboleli od autoimunih bole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Uzrazito gojazne pacijentki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434520"/>
            <a:ext cx="7772400" cy="587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tireoz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ћи</a:t>
            </a:r>
            <a:br>
              <a:rPr sz="3200"/>
            </a:br>
            <a:br>
              <a:rPr sz="3200"/>
            </a:b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idenca – 0,2 –2%</a:t>
            </a:r>
            <a:br>
              <a:rPr sz="2400"/>
            </a:b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iologija: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asedovljeva bolest (autoimuno oboljenje, manifestno kod nosilaca HLA DR5 i DR4)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nodularne toksične strume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trofoblastni tumori i struma ovarijuma</a:t>
            </a:r>
            <a:br>
              <a:rPr sz="2400"/>
            </a:b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inička slika: klasična za hipertireozu</a:t>
            </a:r>
            <a:br>
              <a:rPr sz="2400"/>
            </a:b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est se pogoršava u prvom trimestru, a poboljšava u drugom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701640"/>
            <a:ext cx="7772400" cy="452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jagnoza: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ovišen nivo fT 4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suprimirano lučenje TSH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ovišena conc. TS At</a:t>
            </a:r>
            <a:br>
              <a:rPr sz="2400"/>
            </a:b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apija ima za cilj: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da smanji rizik nastanka tireotoksikoze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kontrolu pojave hipotireoidizma fetusa i novorođenčeta</a:t>
            </a:r>
            <a:br>
              <a:rPr sz="2400"/>
            </a:b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apija;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Tionamidi (propiltiouracil –PTU; metimazol – MET)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Hiruška terapija ( u drugom trimestru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371160"/>
            <a:ext cx="8001000" cy="507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љењ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оталамус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офиз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ћи</a:t>
            </a:r>
            <a:br>
              <a:rPr sz="2400"/>
            </a:b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romegalija</a:t>
            </a:r>
            <a:br>
              <a:rPr sz="2800"/>
            </a:b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рок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омерн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ењ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мо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cidofilni adenom hipofize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нифесту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ње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единих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в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јев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стремит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с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њ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лиц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агноз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ивањ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аци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мо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omatomedina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талмолошк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гледи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рушк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каментозн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romokriptin)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ицај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д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etus nije ugrožen, sem ako nije poremećaj udružen sa dijabeto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13880" y="428760"/>
            <a:ext cx="8201160" cy="557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erinatalni ishod nije uvek povoljan.</a:t>
            </a:r>
            <a:br>
              <a:rPr sz="2400"/>
            </a:br>
            <a:br>
              <a:rPr sz="2400"/>
            </a:b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Fetalni rizici:</a:t>
            </a:r>
            <a:br>
              <a:rPr sz="2400"/>
            </a:b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 pobačaj 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 PIH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 infekcije i anemije 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 fetalna Grejsova bolest (kardiomegalija, fetalna tahikardija)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 mrtvorođenost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 IUZR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1020600"/>
            <a:ext cx="701064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otireoza u trudnoći</a:t>
            </a:r>
            <a:br>
              <a:rPr sz="3200"/>
            </a:b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idenca – 0,9 - 1,4%</a:t>
            </a:r>
            <a:br>
              <a:rPr sz="2400"/>
            </a:b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iologija: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Hašimotov tireoiditis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zračna terapija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hiruško lečenje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Sheehanov sindrom</a:t>
            </a:r>
            <a:br>
              <a:rPr sz="2400"/>
            </a:b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inička slika: tipična za hipotireoz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1378080"/>
            <a:ext cx="7772400" cy="415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jagnoza: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niske vrednosti fT-4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visoke vrednosti TSH</a:t>
            </a:r>
            <a:br>
              <a:rPr sz="2400"/>
            </a:b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apija – supstituciona (levotiroksin).</a:t>
            </a:r>
            <a:br>
              <a:rPr sz="2400"/>
            </a:b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inatalni rizik: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spontani pobačaji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revremeni porođaji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IUZR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mrtvorođen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222120"/>
            <a:ext cx="7924680" cy="587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prolaktinemija</a:t>
            </a:r>
            <a:br>
              <a:rPr sz="3200"/>
            </a:br>
            <a:br>
              <a:rPr sz="3200"/>
            </a:b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većanje vrednosti prolaktina (prolaktinomi).</a:t>
            </a:r>
            <a:br>
              <a:rPr sz="2400"/>
            </a:b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tomi:galaktoreja, poremećaj menstrualnog ciklusa,</a:t>
            </a:r>
            <a:br>
              <a:rPr sz="2400"/>
            </a:b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enoreja, infertilitet, defekti u vidnom polju</a:t>
            </a:r>
            <a:br>
              <a:rPr sz="2400"/>
            </a:b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jagnoza: nivo prolaktina u serumu, Rtg turskog sedla, magnetna rezonanca.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: medikamentozno(Bromokriptin)  i hiruško.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ицај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тус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сталост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ремених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ођај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несеност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иц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л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пијо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28320"/>
            <a:ext cx="7696080" cy="600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kroza hipofize</a:t>
            </a:r>
            <a:br>
              <a:rPr sz="3200"/>
            </a:b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heehanov sindrom)</a:t>
            </a:r>
            <a:br>
              <a:rPr sz="3200"/>
            </a:b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роз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њег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жнј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офиз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азва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ављење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ођа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емиј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ш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75%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лезд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к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ик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ак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остру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рофиј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јк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уже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партал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енореј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рофиј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италиј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ак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бич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силар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љавост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огликемиј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инамиј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итуцио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мони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офиз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бубрег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арију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реоид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лезд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74400"/>
            <a:ext cx="7848720" cy="55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љења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бубрежне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лезде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šingov sindrom</a:t>
            </a:r>
            <a:br>
              <a:rPr sz="32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стик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ерсекрециј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T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од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латералн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ерплази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бубрег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н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ез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лобађањ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кокортикоид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иологиј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мор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офиз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мор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бубрег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топич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рециј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тикостероид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к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ик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ипетал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јазност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ертензиј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ње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еранциј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коз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енореј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рзутиза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еопороз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бок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с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622520"/>
            <a:ext cx="7696080" cy="415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ицај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ћ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ipertenzija, dijabetes, srčana insuficijencija, teže zarastanje rana i smrt majke.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ицај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д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UGR, prevremeni porođaj, mrtvorođenost, insuficijencija fetalnog nadbubrega.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рушк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о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местр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каментизн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и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ршавањ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ођај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7720" y="1023840"/>
            <a:ext cx="8001000" cy="55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isonova bolest </a:t>
            </a:r>
            <a:br>
              <a:rPr sz="3200"/>
            </a:b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imarni hipokorticizam)</a:t>
            </a:r>
            <a:br>
              <a:rPr sz="32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иологиј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br>
              <a:rPr sz="2400"/>
            </a:b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utoimuni adrenalitis </a:t>
            </a:r>
            <a:br>
              <a:rPr sz="2400"/>
            </a:b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sekundarna tuberkuloza.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к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ик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ор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аксалост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битак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етит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огликемиј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ерпигментациј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инамиј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ћн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крењ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укциј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љавост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струалн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028520"/>
            <a:ext cx="7772400" cy="489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јагноз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niske koncentracije kortizola i aldosterona -- visoke vrednosti ACTH.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живот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итуциј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Hydrocortizon).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ицај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ћ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гативног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ицај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лик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итуциј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екват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ицај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д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и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ц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лик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јк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дозира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56760" y="285840"/>
            <a:ext cx="8481960" cy="612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ohromocitom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мор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ж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бубрежн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лезд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ехоламин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norepinefrin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јн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ремен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к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ик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ертензиј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обољ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лпитаци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ојењ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тостатск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отензиј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мор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чни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аћањ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агноз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br>
              <a:rPr sz="2400"/>
            </a:b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ovećana konc.vanilmandelične kiseline, kateholamina i metanefrin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24 satnom urinu </a:t>
            </a:r>
            <a:br>
              <a:rPr sz="2400"/>
            </a:b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magnetna rezonanca </a:t>
            </a:r>
            <a:br>
              <a:rPr sz="2400"/>
            </a:b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hosonografija.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13:40:49Z</dcterms:created>
  <dc:creator>Registered User</dc:creator>
  <dc:description/>
  <dc:language>en-US</dc:language>
  <cp:lastModifiedBy>Machina</cp:lastModifiedBy>
  <dcterms:modified xsi:type="dcterms:W3CDTF">2015-05-11T12:30:38Z</dcterms:modified>
  <cp:revision>25</cp:revision>
  <dc:subject/>
  <dc:title>Oboljenja hipotalamusa i hipofize u trudnoći  Acromegalija  Uzrok- prekomerno lučenje hormona rasta (acidofilni adenom hipofize) Manifestuje se povećanjem pojedinih delova tela (krajevi ekstremiteta, nos, donja vilica, usta) Dijagnoza: određivanje koncentacije hormona rasta i somatomedina, oftalmološki pregledi Lečenje: Hiruško i medikamentozno (Bromokriptin). Uticaj na plod: Fetus nije ugrožen, sem ako nije poremećaj udružen sa dijabetom.</dc:title>
</cp:coreProperties>
</file>