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0FB-0D6A-4BC3-A91B-3398DFE9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901-3AE8-4858-BB20-D37932F5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55C-1D8E-4B7E-8098-C957A3D7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C72-F10C-42A0-93F9-FC7381D9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9D4-88C8-434A-93DE-9A2D4205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D6F8-912E-4185-8EE3-FBA54AE1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1B9-EAFB-4E0C-B11E-C50651D0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61B-FF8D-494C-9E83-5126DF502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28D-CC3E-4B95-AD81-CC97255C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CEF-B3AD-4ADF-AD19-E6576BA4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A93-C13F-4D81-B008-4A3CB1AF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D19-668C-423E-B25B-154AEA96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8254-A5AE-4F63-AEA6-3B29E694902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КРВАРЕЊ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ДРУГОЈ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ПОЛОВИНИ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4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оф. др Мирјана Варјачи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676520"/>
            <a:ext cx="952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степ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лубљив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вич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ску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пертон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Т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апи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Други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лубљи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арциј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мере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тону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орм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Т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пи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етал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истре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ибрино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ниж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716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Трећи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еп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длубљив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ота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бил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етаничн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ахикард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ЦТ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запи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еталн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м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Фибрино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ниж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мн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сонограф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хог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ехог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 крварењ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поехоге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ст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р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бриног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нализе крв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докн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коли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иров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нтибио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брзана матур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тал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ућа кортикостероиди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FMU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гин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ре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агулацио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ат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исео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ринар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те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жи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4Н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рад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т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ар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abrupt-placenta"/>
          <p:cNvPicPr/>
          <p:nvPr/>
        </p:nvPicPr>
        <p:blipFill>
          <a:blip r:embed="rId1"/>
          <a:stretch/>
        </p:blipFill>
        <p:spPr>
          <a:xfrm>
            <a:off x="1523880" y="933480"/>
            <a:ext cx="6629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CENTA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AEV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с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ађ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нутрашње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ч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ш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њ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ИНЦИДЕНЦ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4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1000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-6%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руг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имест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ЕТИ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ар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уд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ултипар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ишестру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иретаж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Врст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рциј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ргинал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ађ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352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4%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ова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з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1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ШЕРС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КУШЕРС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previa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И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метриј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ц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мичн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мен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е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а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знена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езбо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гин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вет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рв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теру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аг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трасонограф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ан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даље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њ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нутрашње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ч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шћ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3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ика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рш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гле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previja 2"/>
          <p:cNvPicPr/>
          <p:nvPr/>
        </p:nvPicPr>
        <p:blipFill>
          <a:blip r:embed="rId1"/>
          <a:stretch/>
        </p:blipFill>
        <p:spPr>
          <a:xfrm>
            <a:off x="1676520" y="1066680"/>
            <a:ext cx="60958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marginalprevia"/>
          <p:cNvPicPr/>
          <p:nvPr/>
        </p:nvPicPr>
        <p:blipFill>
          <a:blip r:embed="rId1"/>
          <a:stretch/>
        </p:blipFill>
        <p:spPr>
          <a:xfrm>
            <a:off x="1752480" y="762120"/>
            <a:ext cx="6019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91440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ТЕРМИН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аб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ализ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докна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в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ерив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иров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окол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тибиоти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ртефицијал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турац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у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oppler i CTG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HOG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ZAVRŠAVANJE TRUDNOĆ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sle 20 NG operativno uz pripremljenu nadoknadu kr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e 20 nedelje pokušati D i 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РУПТУРА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 МАРГИНАЛНОГ СИНУ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590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rvarenje pri kraju trudnoće i tokom porođa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rv je svet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ez bol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VASA PRAEV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сер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упчани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одов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војци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диден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:2000-5000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инат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талите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75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лп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уд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ембран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лтразву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опп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vasa previja1"/>
          <p:cNvPicPr/>
          <p:nvPr/>
        </p:nvPicPr>
        <p:blipFill>
          <a:blip r:embed="rId1"/>
          <a:stretch/>
        </p:blipFill>
        <p:spPr>
          <a:xfrm>
            <a:off x="1143000" y="728640"/>
            <a:ext cx="701028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3880" y="1981080"/>
            <a:ext cx="9601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АКУШЕРСК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brupcija plac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nta prae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рупту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ргиналн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ину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asa praev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uptura uteru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атолош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рлић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илатацио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варе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vasa previja 3"/>
          <p:cNvPicPr/>
          <p:nvPr/>
        </p:nvPicPr>
        <p:blipFill>
          <a:blip r:embed="rId1"/>
          <a:stretch/>
        </p:blipFill>
        <p:spPr>
          <a:xfrm>
            <a:off x="914400" y="622440"/>
            <a:ext cx="800100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UPTURA UTERU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н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рталите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40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ЦИДЕН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: 1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2000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из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одуж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тх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пе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теру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лаб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ултипарите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ећ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раутерус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ултифет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лихидрамни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n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re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t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r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к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ери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ја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трак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стана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ет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т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Ф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шо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ј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ред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би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гин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ит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ар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е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бриња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ПАТОЛОШКЕ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ГРЛИЋ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oli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rcino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ecidualni poli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Eroz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ДИЛАТАЦИОНО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осре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зла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цервик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е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ити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њачеће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лат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л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НЕАКУШЕР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Лез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аг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лип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рцином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грл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ндил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орои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коит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РУПЦИЈА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R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43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ФИНИ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време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лубљив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ормал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сађ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25-50%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зро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нтраутерус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мр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л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80%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епосред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ре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рођа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Хипертез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еклампс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клампс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растегнутос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вре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номал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тери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Крата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упча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т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бруп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ултипар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базалн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ециду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аста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хемат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остељиц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атерич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зи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слобађ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кив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ромбопласт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ктиви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аска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оаг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зроков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ДИК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рок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8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АТОФИЗИ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субхорионск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крвар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ретроплацен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преплацент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рење (кр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уопш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5:18:21Z</dcterms:created>
  <dc:creator>Snezana</dc:creator>
  <dc:description/>
  <dc:language>en-US</dc:language>
  <cp:lastModifiedBy>Machina</cp:lastModifiedBy>
  <dcterms:modified xsi:type="dcterms:W3CDTF">2016-04-18T16:31:10Z</dcterms:modified>
  <cp:revision>16</cp:revision>
  <dc:subject/>
  <dc:title>KRVARENJA U DRUGOJ POLOVINI TRUDNOĆE</dc:title>
</cp:coreProperties>
</file>