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9E6-AA6D-4840-831E-4ECE9CED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5372-B0FB-4D1F-BC2E-55B93742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836-D8AC-445B-8E6F-892F421E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52BB-24B1-44B3-B484-6310D719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161-281C-4A63-967E-4F092046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9E1-FC5E-4EA1-AAEC-8B42BB36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702-5573-428A-9C47-DAD72567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7FD-2136-4572-BF58-A38B6D8F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9C8C-08D7-4149-9545-22FDB2D8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CF6-88A8-4CCA-B89F-BCD2D597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9D9-1566-457D-9214-47DDE4F4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F6B-1145-4725-9076-F54590BF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7CAC-2D21-41CE-9ED1-08614B15002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674360"/>
            <a:ext cx="85345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ЛОШК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886200"/>
            <a:ext cx="806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роф</a:t>
            </a:r>
            <a:r>
              <a:rPr b="1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др</a:t>
            </a:r>
            <a:r>
              <a:rPr b="1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Мирјана</a:t>
            </a:r>
            <a:r>
              <a:rPr b="1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арјач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r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ери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терусом са поремећајем јетрених ензима и присутним жучним бојама у урину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ц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ечене или неадекватно лечене акутне фор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аћена оба бубрега. Ретко се развијају у трудноћи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 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биотска терап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enicilini, cephalosporini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– 6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онефритис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toko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римарног огњишт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onsilo– faringitis, sinuzitis)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 из акутне форме, која код великог броја трудница најчешће прође неопажен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609480"/>
            <a:ext cx="856908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ар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хемат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у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раулир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линд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њо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и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литијаз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а је микрохематурија, са негативном уринокултуром.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рђу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чним прегле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биот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х 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змолит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и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br>
              <a:rPr sz="3200"/>
            </a:br>
            <a:br>
              <a:rPr sz="32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индикац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ме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олуци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ће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ђ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е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aron, 1985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G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nuppel, 198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M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ск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трак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ј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ханич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ес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у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ира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ус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ормон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еј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естерона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%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 – 50%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булар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псорп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т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итент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лаци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а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ар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к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ц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Асимптоматска</a:t>
            </a:r>
            <a:r>
              <a:rPr b="1" lang="en-U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бактериурија</a:t>
            </a:r>
            <a:br>
              <a:rPr sz="2900"/>
            </a:b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	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Асимптоматск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 (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скривен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)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кт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риуриј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 je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стањ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док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з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кт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риуриј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,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ез знакова акутне уринарне инфекције.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Гранични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рој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ктери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ja je 100 000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у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1ml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урина</a:t>
            </a:r>
            <a:br>
              <a:rPr sz="2500"/>
            </a:b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Инциденца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об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o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љ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e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њ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a je 2 – 10% (</a:t>
            </a:r>
            <a:r>
              <a:rPr b="1" lang="sr-C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д</a:t>
            </a: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o 40%)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ч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 (70 – 9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ebsiella (10 – 15%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us mirabilis (5%)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cus D i 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seudomona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denerela vaginal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crinning je 16 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62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900"/>
            </a:b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-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иотицим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биог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500"/>
            </a:b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тити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nicilini, cephalosporini, aminoglikozidi i sulfonamidi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– 14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p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излечења у року од 6 недеља.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5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nfekcij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врстом бактерија, у току 6 недеља од завршене терапи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yborn, 1986). 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ити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ystitis acuta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 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процес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дентно са бубрег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ћ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чи с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 coli, Proteus, Staphilococcus, Klebsiella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731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о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и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ењем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њ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ењу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ћа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оћ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аћ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шике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фебрил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u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kretnu proteinuriju, masu Le, masu bakterija, sv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Er.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ни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биоти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– 1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в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. 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001000" cy="590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јел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тис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а која захвата бубрежни паренхим.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1,5 – 2,5%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екци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урич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38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у лумбалном пределу, повраћање, малаксалост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9:15:12Z</dcterms:created>
  <dc:creator>Registered User</dc:creator>
  <dc:description/>
  <dc:language>en-US</dc:language>
  <cp:lastModifiedBy>Machina</cp:lastModifiedBy>
  <dcterms:modified xsi:type="dcterms:W3CDTF">2015-05-11T12:26:53Z</dcterms:modified>
  <cp:revision>15</cp:revision>
  <dc:subject/>
  <dc:title>UROLO[KA OBOLJENJA U TRUDNO]I </dc:title>
</cp:coreProperties>
</file>