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6442-384C-423F-A472-9F923C81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A9CD-7780-4E5A-A4CE-557CDD04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6D4-AD97-48AD-B23F-24EB953A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2FD-1070-40AD-91A5-FE024D88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948-AAA7-4B48-AC77-645746F3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265-D689-4AC1-83EA-AC99D14D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3A8-F6DA-471C-97EF-4476B640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DDB-B833-449D-9400-80FA05CC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0FB-2FC6-4304-BC83-4F83C882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3E17-DE9C-4B5B-9C38-053D0289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456F-D144-4300-B251-1C9F6A0D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136-C91C-49E8-902D-493D06A5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0032-E17B-4447-A45F-F32C6FA4F38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ЈА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ЈАЧ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Гравидарне</a:t>
            </a:r>
            <a:r>
              <a:rPr b="0" lang="en-US" sz="5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sr-CS" sz="5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токсикоз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фи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рес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Ј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6.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8920" y="9079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з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мп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з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Хронич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з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ерпониран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зиј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понира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мп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понира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лампс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П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-106668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Етиол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ј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лест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риј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утрицион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мунолошк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еправилн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лацент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Генетск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теор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терин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схе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остагландинск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исбаланс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истему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енин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нгитенз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атофизиолошк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аскулит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Генерализован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вазоспаз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ктивациј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оагулационог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ист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хемоста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вир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ош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љ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ир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ње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фуз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е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ацикли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кса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мерулар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трац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енци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васкулар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е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а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опротеи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љивост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ск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унолошк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тив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физ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ивањ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изова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ол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ик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фер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мерулар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тр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мерулар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гур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оплацент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мпенза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ебрал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регул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415360" cy="22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ал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у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изиј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љиц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ој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ј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ов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г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их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ов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њ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скулоеластич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ми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шчезав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клампсиј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спазм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з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оплацентн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иц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3357720"/>
            <a:ext cx="777240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љич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фуз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токсич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ГФ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ро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НФ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цит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ДФ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285480"/>
            <a:ext cx="855828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функ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ћ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генез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клампс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а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у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4200" y="1714680"/>
            <a:ext cx="850104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отели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констриктив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пепти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Yanagisawa, 1988.)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потент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 je 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ш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иш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ја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в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ећи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тв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ци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ћ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ла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до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и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агу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ив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хез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ендо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итромб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I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786880" cy="22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а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у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лан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констрик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дилат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3640" y="2781000"/>
            <a:ext cx="8569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скулар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ј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енз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мерулар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тра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оплацент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ди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рку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71360" y="1356840"/>
            <a:ext cx="807228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I₂ (prostaciklin) –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дил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mboksan A₂ (TXA₂) –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стрикци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мптич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иц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4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на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35/85mmH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мпсиј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иш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пс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ek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пс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клампси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ш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1904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а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0/90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60/110 mmH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3 gr/24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gr/24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уре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0 ml/24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ем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јектив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рефлекс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гастрич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СТОЗ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љај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видитет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ем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лођен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н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фестуј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птационих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видн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клампси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ш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а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60/110 mmH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gr/24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уре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0ml/24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ци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0 000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литич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м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јектив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плоп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рефлекс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гастрич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не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утерини заст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773000"/>
            <a:ext cx="86868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ЛАМПСИ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ањ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улзи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клампси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че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ног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ог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378936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179280" y="333360"/>
            <a:ext cx="8964720" cy="59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кламптичк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онвулзивн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нап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фаз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 20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кунд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ја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ветлуцањ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чи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кочено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иц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ит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имичк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за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ишић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иц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фаз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фаз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тоничких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грчев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 20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кунд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хва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итав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ускулатур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а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исто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у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ав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пне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цијано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аз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удниц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ивот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грож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фаз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фаз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лоничких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грчев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 90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кунд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рчев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ишић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е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нак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сти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ав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крвича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б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гри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зи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мању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цијано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јач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ис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фаз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ас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аћ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убок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н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мнезиј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дход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гађ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P sindrom</a:t>
            </a:r>
            <a:br>
              <a:rPr sz="28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а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j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агу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из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ход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клампс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реш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стику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ити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цистити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г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ро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фесту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6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ира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ич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гоб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чни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игастријум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К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агула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патогр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физологи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P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69192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ци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поуздани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като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ме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стич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ше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филатокс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мен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итроцит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е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зи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о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тич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ангиопат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ци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ушт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кс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отон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ку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оспаз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регаци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лутинаци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боци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лијал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кад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ну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каци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LLP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4920" y="119664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т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ал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фицијен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ту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енз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ијал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омбоцитопениј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рп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ро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литич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мијс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P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000/microL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-100 000/mic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хипер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зи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тикостерои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панде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тро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ти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а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2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2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ету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гинал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а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ив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ир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999720"/>
            <a:ext cx="8520120" cy="17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алитет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,5 – 60%.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натални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алитет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8%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357336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овног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о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ој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19-2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налн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алите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5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56760"/>
            <a:ext cx="8415360" cy="25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прееклампсија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Основа</a:t>
            </a:r>
            <a:r>
              <a:rPr b="0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терапије</a:t>
            </a:r>
            <a:r>
              <a:rPr b="0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–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ВЕНТ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571760" y="3213000"/>
            <a:ext cx="52862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хипертензив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конвулзив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гијенс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етск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прееклампсије</a:t>
            </a:r>
            <a:r>
              <a:rPr b="1" lang="sr-Latn-C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4200" y="1981080"/>
            <a:ext cx="835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к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ири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75mg – 100m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к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 Mg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ив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љивањ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14200" y="1981080"/>
            <a:ext cx="867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стоз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мест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видитетн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peremesis gravidarum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мерн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ењ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љувачк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tialis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стоз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еклампс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Антихипертензивна</a:t>
            </a:r>
            <a:r>
              <a:rPr b="1" lang="en-US" sz="36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3600" spc="-1" strike="noStrike">
                <a:solidFill>
                  <a:srgbClr val="11488b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6760" y="198108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Централ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елујућ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2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дре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гичк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они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ери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ујућ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н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ис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дре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гич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ц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т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н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онист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лцију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т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л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Централно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делујући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el-GR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α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2 a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дрен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e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ргички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агони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ldopa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 п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т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сам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ти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ombs t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0m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x 2000mg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60280"/>
            <a:ext cx="84470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Периферно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делујући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антагонисти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адренергичких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рецеп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4920" y="1557000"/>
            <a:ext cx="80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talo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к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ич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рож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а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UG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ч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п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ну цирку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100-1200m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(10-20mg i.v.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ину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T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mg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x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0mg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ц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360" y="1071360"/>
            <a:ext cx="807228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pidil (Ebrantyl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ив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фер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ич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о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5-HT1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о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нс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r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ж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ст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ди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ц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чни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50mg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.v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њекц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g/min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уз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mg/h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ж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Антагоности</a:t>
            </a:r>
            <a:r>
              <a:rPr b="1" lang="sr-Latn-C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калцијумових</a:t>
            </a:r>
            <a:r>
              <a:rPr b="1" lang="sr-Latn-C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кан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fedipin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bl. a 10mg; retard a 20m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л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јућ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ћ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x5-10mg/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x20mg/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јућ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10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зри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ifedipina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SO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з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558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и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превенција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еклампсије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28592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zijum sulfat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нан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с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у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g (20%MgSO4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и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уз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1-2g/h (100ml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.m.  5g (20%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-6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жа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nc.M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,8-8,7mg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itov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з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ич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кте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hlorpromazin (Largactyl), Promethazin (Phenergan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idin (Dolantin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% glukoz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вулз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zepa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m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.v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ус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zijum sulfat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ап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24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а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трудноћи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препоручују</a:t>
            </a:r>
            <a:r>
              <a:rPr b="1" lang="sr-Latn-CS" sz="2800" spc="-1" strike="noStrike">
                <a:solidFill>
                  <a:srgbClr val="11488b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6760" y="1428840"/>
            <a:ext cx="810108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уретиц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ије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натал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окалем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еран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коз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то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зи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тујућ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з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E inhibitori)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енитал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ф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NS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чи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м триместр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агони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зинск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кц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фузије бубрега, редукција колочине плодове воде и неонатална ренална инсуфицијен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рођенч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икован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клампсијо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ђа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5-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ђ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е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G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ођ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ри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ђ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пљ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DS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ђ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ђа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шћ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билирубинемиј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на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рт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0-50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10%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и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видитетно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mitus matutinus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ћ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чнин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утр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 труд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j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љ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ит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ит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ш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олог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вегетатив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к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кри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физиолош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хидрата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мећа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ли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64268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is gravida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ш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раћ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emessis gravidarum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еренцијал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гноз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т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д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оксика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1285560"/>
            <a:ext cx="84294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дати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хидрац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кортикоид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и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кова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рш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иц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гур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атин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тећ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Н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нолен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уцина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рију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еклампсиј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ан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вљ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ш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еријско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ензијо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уријом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циденц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-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,3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испонирајућ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294920"/>
            <a:ext cx="87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рот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ј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рот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плод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хидрамни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бреж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ћ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ен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јалн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ономск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валитет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р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т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мерно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5T20:51:17Z</dcterms:created>
  <dc:creator>Registered User</dc:creator>
  <dc:description/>
  <dc:language>en-US</dc:language>
  <cp:lastModifiedBy>Machina</cp:lastModifiedBy>
  <dcterms:modified xsi:type="dcterms:W3CDTF">2015-05-11T12:26:12Z</dcterms:modified>
  <cp:revision>52</cp:revision>
  <dc:subject/>
  <dc:title>GESTOZE</dc:title>
</cp:coreProperties>
</file>